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250-CF64-44BD-9A7D-B7857E78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D45-CBBD-4220-84B8-43D74501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F3A-56F6-4BA2-A12A-6AA37083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55A-CDE7-4E90-B718-8BABA673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A30-6727-42C1-B5ED-9E610C9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EC0-84E7-4658-BAC0-8B7BFE82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C8A-2350-41CC-B41C-2906CB6B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EDF-6FE7-4B1D-BC9F-D2A43D7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785-84E3-454D-B154-D6CB2D1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B7D-B50D-44A4-8418-6B5A0FB3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95B-9840-496B-ACE2-D322D9F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636-81AE-485F-ABE9-16C10821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DEB-F5A2-4858-88FB-B9F95ACB4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rainpop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15  Outli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eaching and Learning with Technology in Special Edu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macdonmi\Local Settings\Temporary Internet Files\Content.IE5\QS937PBQ\MP900437333[1].jpg"/>
          <p:cNvPicPr/>
          <p:nvPr/>
        </p:nvPicPr>
        <p:blipFill>
          <a:blip r:embed="rId1"/>
          <a:stretch/>
        </p:blipFill>
        <p:spPr>
          <a:xfrm>
            <a:off x="7467480" y="1066680"/>
            <a:ext cx="1384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ary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or most of us, technology makes things easier. For a person with a disability, it makes things possible.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. 396 Chapter 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 Articulate a rationale for including technology in curriculum for special education that is based on goals of meeting individual needs of eac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 Recognize the implications for technology integration of each current issue faced teachers of students with speci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 Create Key strategies for integrating technology into special education curric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 Analyze given scenarios to identify examples of tech-PACK needs and challenges that are specific to teachers of students with speci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ssues and Problems in Special Educ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al and Policy Dir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Child Left Behind Act for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Sig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ed for Trained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lusive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b Acces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5.1 P. 40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of Technology Integration Strategies for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mple Re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 Risk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e BrainP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rainpop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PACK Nee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l Education – Content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l Education - Pedagogical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l Education – Technological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. 412-4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rap Up Chapter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e page 410 for TOP TEN Strategies List for Special Education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rt Chapter – direct in topic information pres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y resources given for 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Users\Mike\AppData\Local\Microsoft\Windows\Temporary Internet Files\Content.IE5\0WT08MVW\MC900104682[1].wmf"/>
          <p:cNvPicPr/>
          <p:nvPr/>
        </p:nvPicPr>
        <p:blipFill>
          <a:blip r:embed="rId1"/>
          <a:stretch/>
        </p:blipFill>
        <p:spPr>
          <a:xfrm>
            <a:off x="4114800" y="4876920"/>
            <a:ext cx="907920" cy="90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Mike\AppData\Local\Microsoft\Windows\Temporary Internet Files\Content.IE5\JZBTO7O4\MC900104674[1].wmf"/>
          <p:cNvPicPr/>
          <p:nvPr/>
        </p:nvPicPr>
        <p:blipFill>
          <a:blip r:embed="rId2"/>
          <a:stretch/>
        </p:blipFill>
        <p:spPr>
          <a:xfrm>
            <a:off x="5029200" y="4876920"/>
            <a:ext cx="907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5:44:53Z</dcterms:created>
  <dc:creator>Province of NS</dc:creator>
  <dc:description/>
  <dc:language>en-US</dc:language>
  <cp:lastModifiedBy>Mike</cp:lastModifiedBy>
  <dcterms:modified xsi:type="dcterms:W3CDTF">2012-07-15T14:04:55Z</dcterms:modified>
  <cp:revision>28</cp:revision>
  <dc:subject/>
  <dc:title>Slide 1</dc:title>
</cp:coreProperties>
</file>